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858-D02D-4AB3-8B48-F76BDA79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DCE-6ABC-4999-A57F-09A179C7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7D6-A248-4733-8E57-3936097C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C98-C699-42A1-B3FA-E9A81475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F185-F721-40DD-90A7-1EF4DF1F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3B23-D9AB-447F-93F9-6CE31E52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4132-0811-401E-8E69-4B96B759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3049-C45F-43D4-81D0-D636B2CE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1567-F80F-4713-BF12-D191A921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DDC8-FB6F-4E8D-B8A0-5F57DBA0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60F3-75EE-4B32-8886-F03B3073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D7E-F625-4A83-9B69-3408641B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9E12-0FF4-4B3A-AC9E-10CAD032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81C7-AA3C-4DF2-AB11-A0E7799A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7CA0-6A9E-46B8-B886-EB4B979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A33C-50A9-47E0-9181-58FBAE11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189E-8789-474C-AADE-0CC3C861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121-7EBC-4C6C-AFD2-F4AA09C7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C1A-8669-40F5-8DCB-BEACE2DE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160-0916-4FD7-B461-D78CE1DF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FDF-B0AE-403D-B8C8-3182C85C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EA0-F78E-44F4-9B80-54491ADF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8B6-F64E-46B4-BC6D-B1880AA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132-191A-436A-9B03-BD9E64B1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5527-3C13-4F33-B666-185D52687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5F2C-6B0E-4D25-924B-600998283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ll There Was No Remedy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vided Kingdom –Part 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7 Lesson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bakku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54-1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68A1-FCE6-422E-9141-0C9FD7891C0D}" type="slidenum">
              <a:t>1</a:t>
            </a:fld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eremiah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Jer. 26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he beginning of Jehoiakim’s reign, Jeremiah commanded to preach to the people in the court of the Lord’s hous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ached repentance, or doom would 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eople did not like what he had to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s accused of trea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lders defended him – cited Mic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iah was killed for preaching the same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CDB-8896-45BF-B5F4-1315ED4D96AA}" type="slidenum">
              <a:t>10</a:t>
            </a:fld>
          </a:p>
        </p:txBody>
      </p:sp>
    </p:spTree>
  </p:cSld>
  <p:transition spd="med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5181480" y="4266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808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st Before The Fall of Assyria and the Rise of Babyl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A57-2E65-427B-9275-FDAEEB9BE24D}" type="slidenum">
              <a:t>2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3808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ition of Habakk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809880"/>
            <a:ext cx="5335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BED-BCE9-4BB5-8B22-4EC776104884}" type="slidenum">
              <a:t>3</a:t>
            </a:fld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abakkuk’s Ques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es God allow evil to go 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Judah be punished? 1:1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Yes! – 1:5-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l Babylon be punished? – 1:12-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: Yes! – 2:1-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F54-01A3-4627-A69F-9FBB979630C7}" type="slidenum">
              <a:t>4</a:t>
            </a:fld>
          </a:p>
        </p:txBody>
      </p:sp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ighteo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not despair; all injustice will be punished and the righteous will be ave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live by faith - 2: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if it seems to be a losing ca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if the numbers are on the side of the unright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735-CC4F-4471-9D15-EA6AFBA32090}" type="slidenum">
              <a:t>5</a:t>
            </a:fld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d Will Judge Babyl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 many si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unkenness and greed – 2: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utality – 2: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edding of blood – 2:7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merchants of terror – 15-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troying other lands –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ss Idolatry – 18-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FE1-3071-4040-B20E-40B0854AF28B}" type="slidenum">
              <a:t>6</a:t>
            </a:fld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d’s Five Woes Against Babyl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im who increases what is not h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im that covets evil gain for his h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im who builds a town with blood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im who gives drink to his neigh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him who says to wood, “Awake!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ilent stones, “Arise” It shall teach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E4A-F2CD-418A-BF99-4F4F368D1585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 Re-Assured of God’s Greatnes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fame has not been wrongly presented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:1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arth is still full of His praise – 3: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Glory Still Brightens the Earth – 3: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are the everlasting ways – 3:5-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evil has fallen before – 3:8-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bakkuk would just have to wait – 3: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ust God even when things look dark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:17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2DC-C163-4350-94D2-2393533E3421}" type="slidenum">
              <a:t>8</a:t>
            </a:fld>
          </a:p>
        </p:txBody>
      </p:sp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ehoiakim (Eliakim)</a:t>
            </a:r>
            <a:br>
              <a:rPr sz="44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 Kings 23:36 – 24:6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ah’s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uler (about 609 B.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 years of ev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raoh Necho of Egypt had removed his brother, Jehoahaz, and taken him to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, he placed Jehoiakim on the thr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ho required him to pay a huge tribu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61B-F343-4433-88F7-A811DF14F67E}" type="slidenum">
              <a:t>9</a:t>
            </a:fld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8:12:56Z</dcterms:created>
  <dc:creator>Terry W. Benton</dc:creator>
  <dc:description/>
  <dc:language>en-US</dc:language>
  <cp:lastModifiedBy>Frank D Vines</cp:lastModifiedBy>
  <dcterms:modified xsi:type="dcterms:W3CDTF">2006-03-19T14:46:21Z</dcterms:modified>
  <cp:revision>9</cp:revision>
  <dc:subject/>
  <dc:title>Till There Was No Remedy Divided Kingdom –Part 2</dc:title>
</cp:coreProperties>
</file>